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577513" cy="7556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B3F-44A1-4377-A3E6-CBC7BDE5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8869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2120" y="4028760"/>
            <a:ext cx="8869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6FB-2834-4759-8216-56E2EDAC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2120" y="402876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6760" y="402876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314-A075-4673-91D0-7917F997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0920" y="195912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9360" y="195912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2120" y="402876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0920" y="402876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9360" y="402876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71A-5F96-42F9-8BD4-23B42AB3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2120" y="1959120"/>
            <a:ext cx="8869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1DD-8537-476A-B795-EEA2CDC0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8869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5EF-5245-4CF2-9404-D99C693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41A-BA46-4A99-8F3A-A4955897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9FF-0BC0-4616-9D5D-38D0D2B4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2120" y="631800"/>
            <a:ext cx="88693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D48-58E3-42D1-830B-9E069FF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2120" y="402876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3CE-7871-4A6B-9D03-856DB996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6760" y="402876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158-E979-4427-A2A7-4FB50A39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2120" y="4028760"/>
            <a:ext cx="8869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354-A530-417B-83FD-177B488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59120"/>
            <a:ext cx="8869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2480" y="6586200"/>
            <a:ext cx="2293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0680" y="6586200"/>
            <a:ext cx="31226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6440" y="6586200"/>
            <a:ext cx="2293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9A36D-1593-46B8-A468-6B25EB33466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que é a programaçã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2480" y="1958760"/>
            <a:ext cx="887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Eu encadear palavras mágicas para fazer fótons e elétrons dança, e ainda tem a audácia de reclamar sobre o meu trabalho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Phil Darnowsk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2480" y="1958760"/>
            <a:ext cx="887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00360" y="1959120"/>
            <a:ext cx="6048360" cy="437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2376360" y="2590560"/>
            <a:ext cx="1368720" cy="363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4760" y="2952720"/>
            <a:ext cx="2235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cute 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55640" y="3743280"/>
            <a:ext cx="1409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2480" y="1773360"/>
            <a:ext cx="4187880" cy="530280"/>
          </a:xfrm>
          <a:prstGeom prst="rect">
            <a:avLst/>
          </a:prstGeom>
          <a:solidFill>
            <a:srgbClr val="e6e6f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3640" y="2448000"/>
            <a:ext cx="4176720" cy="136836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3640" y="4103640"/>
            <a:ext cx="4176720" cy="20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3640" y="6335640"/>
            <a:ext cx="4176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natomia de um "sketch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1814400"/>
            <a:ext cx="431964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Preparac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(500,5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ackground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255,200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ct(100,200,200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100,100,2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lipse(400,350,150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Outras definic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1773360"/>
            <a:ext cx="1656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4720" y="2765520"/>
            <a:ext cx="1706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24720" y="4535640"/>
            <a:ext cx="1439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eti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43800" y="5716440"/>
            <a:ext cx="235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utras defini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111280" y="2016000"/>
            <a:ext cx="1298520" cy="7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83280" y="3024360"/>
            <a:ext cx="1442880" cy="215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83280" y="4751280"/>
            <a:ext cx="14428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38200" y="5975280"/>
            <a:ext cx="160668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ativi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58760"/>
            <a:ext cx="43290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43164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Experimente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7120" y="1958760"/>
            <a:ext cx="43290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43164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Experimente #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52360" y="2862360"/>
            <a:ext cx="468000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(500,5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ackground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100,100,2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lipse(mouseX,mouseY,50,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32360" y="2894040"/>
            <a:ext cx="453564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(500,500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ackground(0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100,100,2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lipse(mouseX,mouseY,50,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Variav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28640" y="2087640"/>
            <a:ext cx="31226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(500,5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= 2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y = 250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ackground(0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100,100,2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lipse(x,y,50,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= (x + 2) % 5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y = (y + 1) % 5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16720" y="2160720"/>
            <a:ext cx="3165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claração de variá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8560" y="3197160"/>
            <a:ext cx="32781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ização de variá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4751280"/>
            <a:ext cx="2448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ção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64360" y="5918040"/>
            <a:ext cx="2638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ualização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022200" y="2303280"/>
            <a:ext cx="2451240" cy="74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166920" y="3384720"/>
            <a:ext cx="23068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05120" y="4896000"/>
            <a:ext cx="1731960" cy="43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605120" y="6046560"/>
            <a:ext cx="1587240" cy="74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ações 2 : Ev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2480" y="1958760"/>
            <a:ext cx="60595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43164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Adicionar na final de program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44720" y="2886120"/>
            <a:ext cx="3322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mouseClick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y = mous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08000" y="1959120"/>
            <a:ext cx="532764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import ddf.minim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import ddf.minim.ugens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Minim minim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AudioOutput ou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scil osc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size(500,5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x = 20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y = 250;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minim = new Minim(this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ut = minim.getLineOut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sc = new Oscil( 440, 0.5f, Waves.SINE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sc.patch( out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8800" y="2049480"/>
            <a:ext cx="452448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background(0);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fill(100,200,255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ellipse(x,y,50,5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x = (x + 2) % 50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y = (y + 1) % 50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sc.setFrequency( 1500 - (y * 3) );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500"/>
            </a:b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void mouseClicked(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y = mouse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11:53:02Z</dcterms:created>
  <dc:creator>phil </dc:creator>
  <dc:description/>
  <dc:language>en-US</dc:language>
  <cp:lastModifiedBy>phil </cp:lastModifiedBy>
  <dcterms:modified xsi:type="dcterms:W3CDTF">2014-10-23T19:51:53Z</dcterms:modified>
  <cp:revision>10</cp:revision>
  <dc:subject/>
  <dc:title/>
</cp:coreProperties>
</file>